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1E7-8A8C-4163-A7EB-2428F3F4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293-78C8-4DDF-9D29-BFA0CA0E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922-0C05-4287-BFAF-CC078262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BD9-D299-4F85-925A-22533BC2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563F-38AC-4635-8E9F-C2890CFB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2F04-3562-4F6A-A77F-19B737C7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0DC4-F813-48B1-84A2-93EB5BF1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CF7F-C547-46C2-8DFD-5FC58D30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4EC6-59FB-4C79-A6C8-B6DD975C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5B3E-3E7A-4EA1-89AA-D649D8BA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1544-3F95-4F37-B6BB-5FC2B52F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95D-FD2E-4BD3-8FBB-3A1BAE38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9731-9253-4E9B-BB4D-593420EB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BC08-11F5-4F3D-BDE1-A04EA5BB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E3CC-750B-4594-A3A1-72F47D44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3329-C46E-4BF0-A7BC-B3616AB1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035F-6B24-4825-9763-85BAD5B8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01D5D-2383-4984-BDDD-2585DA56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5995A-2282-4DD8-A34F-C5B2DB03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9EB77-E9CE-47E5-8F04-6F8E7E0B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E1951-3B22-4F4C-9AAB-111871B0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0053B-61F9-4955-AC68-4321A5CF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EFB-4DF4-4B23-9E9A-3AB071E6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E7653-28D4-45E7-B63B-33E68ED3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DC8CA-505C-4218-A240-ADBB65CD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501A3-B9A8-427C-A7AE-89D56A1D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46BE3-346A-4202-947E-17D5588E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E9400-BE59-4FF5-81FE-0B0D8720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8DE9E-B943-4ADA-81D6-1350395A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6207E-1579-4A6F-B736-4D785FA5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3C95-43BD-4DCA-8314-0CE2A320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4C931-6E47-4505-84F2-7952142A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6EBE8-8C0E-42DB-8664-7B1D14B1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1F3-49A0-453A-B71D-8904C8A1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F6D4A-A15B-414F-BBCD-3B144186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17801-2498-4696-94CE-6D8B8F7A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28CE8-0B2D-4D35-99EE-D0E17B07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DC730-E5FB-4A8A-8B54-C2025710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B40F2-BF13-4799-A712-3F88D7ED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84073-8AF1-4699-9E49-2625F212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5D814-2989-4387-8500-CCD136D9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13C5D-4C1D-49A3-B119-0B4D0ACE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84CB1-C1FD-4BAB-9C2F-8D5E3BC6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C60-D33D-40A6-BA7E-BDF16AC1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82A-83D7-46A7-B9EA-4BAD5A65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C9B-ABDB-4173-BAC7-5BBD9D10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F8F-8B12-4ABC-8C4F-76D5866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79F-5417-472D-B0A8-BB1F9CDC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4EA2-7D11-4D29-AB0E-E3520ACD8F04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rostokąt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rostokąt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rostokąt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rostokąt zaokrąglony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rostokąt zaokrąglony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rostokąt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rostokąt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rostokąt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rostokąt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091E-14D3-42BD-932A-C8915F19C808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A0E1-28AE-4991-9A83-2B9B2FB6347C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63AB-A11D-47AB-A032-E004DD35E868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rebuchet MS"/>
              </a:rPr>
              <a:t>Odejmowanie pisemne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grpSp>
        <p:nvGrpSpPr>
          <p:cNvPr id="216" name="Grupa 4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217" name="Obraz 5" descr=""/>
            <p:cNvPicPr/>
            <p:nvPr/>
          </p:nvPicPr>
          <p:blipFill>
            <a:blip r:embed="rId1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Grupa 6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219" name="Obraz 15" descr=""/>
              <p:cNvPicPr/>
              <p:nvPr/>
            </p:nvPicPr>
            <p:blipFill>
              <a:blip r:embed="rId2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Elipsa 16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21" name="Elipsa 17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22" name="Obraz 7" descr=""/>
            <p:cNvPicPr/>
            <p:nvPr/>
          </p:nvPicPr>
          <p:blipFill>
            <a:blip r:embed="rId3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Obraz 8" descr=""/>
            <p:cNvPicPr/>
            <p:nvPr/>
          </p:nvPicPr>
          <p:blipFill>
            <a:blip r:embed="rId4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Obraz 9" descr=""/>
            <p:cNvPicPr/>
            <p:nvPr/>
          </p:nvPicPr>
          <p:blipFill>
            <a:blip r:embed="rId5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Obraz 10" descr=""/>
            <p:cNvPicPr/>
            <p:nvPr/>
          </p:nvPicPr>
          <p:blipFill>
            <a:blip r:embed="rId6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Obraz 11" descr=""/>
            <p:cNvPicPr/>
            <p:nvPr/>
          </p:nvPicPr>
          <p:blipFill>
            <a:blip r:embed="rId7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Obraz 12" descr=""/>
            <p:cNvPicPr/>
            <p:nvPr/>
          </p:nvPicPr>
          <p:blipFill>
            <a:blip r:embed="rId8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raz 13" descr=""/>
            <p:cNvPicPr/>
            <p:nvPr/>
          </p:nvPicPr>
          <p:blipFill>
            <a:blip r:embed="rId9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Obraz 14" descr=""/>
            <p:cNvPicPr/>
            <p:nvPr/>
          </p:nvPicPr>
          <p:blipFill>
            <a:blip r:embed="rId10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rostokąt 18" descr=""/>
          <p:cNvPicPr/>
          <p:nvPr/>
        </p:nvPicPr>
        <p:blipFill>
          <a:blip r:embed="rId11"/>
          <a:stretch/>
        </p:blipFill>
        <p:spPr>
          <a:xfrm>
            <a:off x="6735600" y="2571840"/>
            <a:ext cx="20844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7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32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0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Odejmowanie liczb dwucyfrowych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: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78 - 23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w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d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pod liczbą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8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drugiej liczby pod jednościami pierwszej liczb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ziesiątki drugiej liczby pod dziesiątkami pierwszej liczb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jednośc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– 3 = 5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óżnicy w rzędzie jedności pisz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dziesią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 – 2 = 5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óżnicy w rzędzie dziesiątek pisz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prawność wykonanego odejmowania sprawdzamy za pomocą dodawania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55 + 23 = 7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 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ole tekstowe 7"/>
          <p:cNvSpPr/>
          <p:nvPr/>
        </p:nvSpPr>
        <p:spPr>
          <a:xfrm>
            <a:off x="716184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7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38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9" name="pole tekstowe 11"/>
            <p:cNvSpPr/>
            <p:nvPr/>
          </p:nvSpPr>
          <p:spPr>
            <a:xfrm>
              <a:off x="6958800" y="2860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0" name="Grupa 25"/>
          <p:cNvGrpSpPr/>
          <p:nvPr/>
        </p:nvGrpSpPr>
        <p:grpSpPr>
          <a:xfrm>
            <a:off x="6875640" y="3573360"/>
            <a:ext cx="1081080" cy="582480"/>
            <a:chOff x="6875640" y="3573360"/>
            <a:chExt cx="1081080" cy="582480"/>
          </a:xfrm>
        </p:grpSpPr>
        <p:sp>
          <p:nvSpPr>
            <p:cNvPr id="241" name="pole tekstowe 12"/>
            <p:cNvSpPr/>
            <p:nvPr/>
          </p:nvSpPr>
          <p:spPr>
            <a:xfrm>
              <a:off x="7161840" y="35733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7 8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2" name="pole tekstowe 13"/>
            <p:cNvSpPr/>
            <p:nvPr/>
          </p:nvSpPr>
          <p:spPr>
            <a:xfrm>
              <a:off x="7161840" y="37875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3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3" name="Łącznik prostoliniowy 14"/>
            <p:cNvSpPr/>
            <p:nvPr/>
          </p:nvSpPr>
          <p:spPr>
            <a:xfrm>
              <a:off x="6875640" y="407844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4" name="pole tekstowe 15"/>
            <p:cNvSpPr/>
            <p:nvPr/>
          </p:nvSpPr>
          <p:spPr>
            <a:xfrm>
              <a:off x="6958800" y="3724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45" name="pole tekstowe 16"/>
          <p:cNvSpPr/>
          <p:nvPr/>
        </p:nvSpPr>
        <p:spPr>
          <a:xfrm>
            <a:off x="735228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46" name="Grupa 3"/>
          <p:cNvGrpSpPr/>
          <p:nvPr/>
        </p:nvGrpSpPr>
        <p:grpSpPr>
          <a:xfrm>
            <a:off x="6872400" y="4805280"/>
            <a:ext cx="1081080" cy="585720"/>
            <a:chOff x="6872400" y="4805280"/>
            <a:chExt cx="1081080" cy="585720"/>
          </a:xfrm>
        </p:grpSpPr>
        <p:sp>
          <p:nvSpPr>
            <p:cNvPr id="247" name="pole tekstowe 17"/>
            <p:cNvSpPr/>
            <p:nvPr/>
          </p:nvSpPr>
          <p:spPr>
            <a:xfrm>
              <a:off x="7158600" y="4805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5 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8" name="pole tekstowe 18"/>
            <p:cNvSpPr/>
            <p:nvPr/>
          </p:nvSpPr>
          <p:spPr>
            <a:xfrm>
              <a:off x="7165080" y="502272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3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9" name="Łącznik prostoliniowy 19"/>
            <p:cNvSpPr/>
            <p:nvPr/>
          </p:nvSpPr>
          <p:spPr>
            <a:xfrm>
              <a:off x="6872400" y="5310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0" name="pole tekstowe 20"/>
            <p:cNvSpPr/>
            <p:nvPr/>
          </p:nvSpPr>
          <p:spPr>
            <a:xfrm>
              <a:off x="6966000" y="495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51" name="pole tekstowe 23"/>
          <p:cNvSpPr/>
          <p:nvPr/>
        </p:nvSpPr>
        <p:spPr>
          <a:xfrm>
            <a:off x="715536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52" name="Grupa 4"/>
          <p:cNvGrpSpPr/>
          <p:nvPr/>
        </p:nvGrpSpPr>
        <p:grpSpPr>
          <a:xfrm>
            <a:off x="7165080" y="5238720"/>
            <a:ext cx="496080" cy="368280"/>
            <a:chOff x="7165080" y="5238720"/>
            <a:chExt cx="496080" cy="368280"/>
          </a:xfrm>
        </p:grpSpPr>
        <p:sp>
          <p:nvSpPr>
            <p:cNvPr id="253" name="pole tekstowe 21"/>
            <p:cNvSpPr/>
            <p:nvPr/>
          </p:nvSpPr>
          <p:spPr>
            <a:xfrm>
              <a:off x="7349400" y="5238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4" name="pole tekstowe 26"/>
            <p:cNvSpPr/>
            <p:nvPr/>
          </p:nvSpPr>
          <p:spPr>
            <a:xfrm>
              <a:off x="7165080" y="5238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55" name="Elipsa 5"/>
          <p:cNvSpPr/>
          <p:nvPr/>
        </p:nvSpPr>
        <p:spPr>
          <a:xfrm>
            <a:off x="7380360" y="3573360"/>
            <a:ext cx="255600" cy="5223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Elipsa 27"/>
          <p:cNvSpPr/>
          <p:nvPr/>
        </p:nvSpPr>
        <p:spPr>
          <a:xfrm>
            <a:off x="7192800" y="3592440"/>
            <a:ext cx="255600" cy="5223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9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75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75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7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75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1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6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75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7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75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: </a:t>
            </a: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 i sprawdź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47280" y="2249640"/>
            <a:ext cx="7139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578 – 4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433 – 40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678 – 32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948 – 63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0" name="Grupa 18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261" name="Obraz 19" descr=""/>
            <p:cNvPicPr/>
            <p:nvPr/>
          </p:nvPicPr>
          <p:blipFill>
            <a:blip r:embed="rId2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Grupa 20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263" name="Obraz 33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Elipsa 34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5" name="Elipsa 35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266" name="Obraz 21" descr=""/>
            <p:cNvPicPr/>
            <p:nvPr/>
          </p:nvPicPr>
          <p:blipFill>
            <a:blip r:embed="rId4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Obraz 22" descr=""/>
            <p:cNvPicPr/>
            <p:nvPr/>
          </p:nvPicPr>
          <p:blipFill>
            <a:blip r:embed="rId5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Obraz 27" descr=""/>
            <p:cNvPicPr/>
            <p:nvPr/>
          </p:nvPicPr>
          <p:blipFill>
            <a:blip r:embed="rId6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Obraz 28" descr=""/>
            <p:cNvPicPr/>
            <p:nvPr/>
          </p:nvPicPr>
          <p:blipFill>
            <a:blip r:embed="rId7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Obraz 29" descr=""/>
            <p:cNvPicPr/>
            <p:nvPr/>
          </p:nvPicPr>
          <p:blipFill>
            <a:blip r:embed="rId8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Obraz 30" descr=""/>
            <p:cNvPicPr/>
            <p:nvPr/>
          </p:nvPicPr>
          <p:blipFill>
            <a:blip r:embed="rId9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Obraz 31" descr=""/>
            <p:cNvPicPr/>
            <p:nvPr/>
          </p:nvPicPr>
          <p:blipFill>
            <a:blip r:embed="rId10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Obraz 32" descr=""/>
            <p:cNvPicPr/>
            <p:nvPr/>
          </p:nvPicPr>
          <p:blipFill>
            <a:blip r:embed="rId11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75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0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75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75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77616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Odejmowanie z przekroczeniem progu dziesiątkowego</a:t>
            </a:r>
            <a:br>
              <a:rPr sz="1800"/>
            </a:b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Wykonaj odejmowanie: </a:t>
            </a:r>
            <a:r>
              <a:rPr b="1" lang="pl-PL" sz="1800" spc="-1" strike="noStrike">
                <a:solidFill>
                  <a:srgbClr val="424456"/>
                </a:solidFill>
                <a:latin typeface="Trebuchet MS"/>
              </a:rPr>
              <a:t>741 – 629</a:t>
            </a:r>
            <a:br>
              <a:rPr sz="24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rawidłowo podpisujemy liczby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jedności: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nieważ od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nie możemy odjąć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9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 tym 1 dziesiątkę zamieniamy n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0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i stąd mamy: </a:t>
            </a:r>
            <a:r>
              <a:rPr b="1" lang="pl-PL" sz="1600" spc="-1" strike="noStrike">
                <a:solidFill>
                  <a:srgbClr val="00b050"/>
                </a:solidFill>
                <a:latin typeface="Georgia"/>
              </a:rPr>
              <a:t>11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– 9 = 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zędzie jedności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nad rzędem dziesiątek zapisujemy </a:t>
            </a:r>
            <a:r>
              <a:rPr b="1" lang="pl-PL" sz="1400" spc="-1" strike="noStrike">
                <a:solidFill>
                  <a:srgbClr val="ff0000"/>
                </a:solidFill>
                <a:latin typeface="Georgia"/>
              </a:rPr>
              <a:t>3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dziesią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 – 2 =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óżnicy w rzędzie dziesiątek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zapisujemy 1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se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 – 6 =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i w rzędzie setek zapisujemy 1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prawdzenie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12 + 629 = 741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 4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 2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0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81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2" name="pole tekstowe 11"/>
            <p:cNvSpPr/>
            <p:nvPr/>
          </p:nvSpPr>
          <p:spPr>
            <a:xfrm>
              <a:off x="6958800" y="2860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83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284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7 4 1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 2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6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7" name="pole tekstowe 15"/>
            <p:cNvSpPr/>
            <p:nvPr/>
          </p:nvSpPr>
          <p:spPr>
            <a:xfrm>
              <a:off x="6958800" y="45090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88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ole tekstowe 18"/>
          <p:cNvSpPr/>
          <p:nvPr/>
        </p:nvSpPr>
        <p:spPr>
          <a:xfrm>
            <a:off x="7486920" y="4151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Łącznik prostoliniowy 4"/>
          <p:cNvSpPr/>
          <p:nvPr/>
        </p:nvSpPr>
        <p:spPr>
          <a:xfrm>
            <a:off x="7404120" y="4471920"/>
            <a:ext cx="179280" cy="200160"/>
          </a:xfrm>
          <a:prstGeom prst="line">
            <a:avLst/>
          </a:prstGeom>
          <a:ln w="3168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ole tekstowe 27"/>
          <p:cNvSpPr/>
          <p:nvPr/>
        </p:nvSpPr>
        <p:spPr>
          <a:xfrm>
            <a:off x="7320600" y="415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4" name="Grupa 28"/>
          <p:cNvGrpSpPr/>
          <p:nvPr/>
        </p:nvGrpSpPr>
        <p:grpSpPr>
          <a:xfrm>
            <a:off x="6943680" y="5589720"/>
            <a:ext cx="1079640" cy="585720"/>
            <a:chOff x="6943680" y="5589720"/>
            <a:chExt cx="1079640" cy="585720"/>
          </a:xfrm>
        </p:grpSpPr>
        <p:sp>
          <p:nvSpPr>
            <p:cNvPr id="295" name="pole tekstowe 29"/>
            <p:cNvSpPr/>
            <p:nvPr/>
          </p:nvSpPr>
          <p:spPr>
            <a:xfrm>
              <a:off x="7228440" y="55897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1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6" name="pole tekstowe 30"/>
            <p:cNvSpPr/>
            <p:nvPr/>
          </p:nvSpPr>
          <p:spPr>
            <a:xfrm>
              <a:off x="7236360" y="580716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 2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7" name="Łącznik prostoliniowy 31"/>
            <p:cNvSpPr/>
            <p:nvPr/>
          </p:nvSpPr>
          <p:spPr>
            <a:xfrm>
              <a:off x="6943680" y="6093000"/>
              <a:ext cx="10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8" name="pole tekstowe 32"/>
            <p:cNvSpPr/>
            <p:nvPr/>
          </p:nvSpPr>
          <p:spPr>
            <a:xfrm>
              <a:off x="7036920" y="574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99" name="pole tekstowe 35"/>
          <p:cNvSpPr/>
          <p:nvPr/>
        </p:nvSpPr>
        <p:spPr>
          <a:xfrm>
            <a:off x="7225200" y="61088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 4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Elipsa 32"/>
          <p:cNvSpPr/>
          <p:nvPr/>
        </p:nvSpPr>
        <p:spPr>
          <a:xfrm>
            <a:off x="7570800" y="4151160"/>
            <a:ext cx="255600" cy="74304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Elipsa 33"/>
          <p:cNvSpPr/>
          <p:nvPr/>
        </p:nvSpPr>
        <p:spPr>
          <a:xfrm flipH="1">
            <a:off x="7346160" y="4146480"/>
            <a:ext cx="273240" cy="74448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Elipsa 34"/>
          <p:cNvSpPr/>
          <p:nvPr/>
        </p:nvSpPr>
        <p:spPr>
          <a:xfrm>
            <a:off x="7199280" y="4302000"/>
            <a:ext cx="216000" cy="6303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0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24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8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32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36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75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75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21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161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75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75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166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7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70" nodeType="afterEffect" fill="hold" presetClass="entr" presetID="22" presetSubtype="4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1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87" nodeType="afterEffect" fill="hold" presetClass="entr" presetID="22" presetSubtype="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75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75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01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75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15" nodeType="afterEffect" fill="hold" presetClass="entr" presetID="2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: </a:t>
            </a: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 i sprawdź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47280" y="2249640"/>
            <a:ext cx="7139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327 – 10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246 – 3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874 – 56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625 – 1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06" name="Grupa 6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307" name="Obraz 7" descr=""/>
            <p:cNvPicPr/>
            <p:nvPr/>
          </p:nvPicPr>
          <p:blipFill>
            <a:blip r:embed="rId2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Grupa 8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309" name="Obraz 17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Elipsa 18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311" name="Elipsa 19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312" name="Obraz 9" descr=""/>
            <p:cNvPicPr/>
            <p:nvPr/>
          </p:nvPicPr>
          <p:blipFill>
            <a:blip r:embed="rId4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Obraz 10" descr=""/>
            <p:cNvPicPr/>
            <p:nvPr/>
          </p:nvPicPr>
          <p:blipFill>
            <a:blip r:embed="rId5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Obraz 11" descr=""/>
            <p:cNvPicPr/>
            <p:nvPr/>
          </p:nvPicPr>
          <p:blipFill>
            <a:blip r:embed="rId6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Obraz 12" descr=""/>
            <p:cNvPicPr/>
            <p:nvPr/>
          </p:nvPicPr>
          <p:blipFill>
            <a:blip r:embed="rId7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Obraz 13" descr=""/>
            <p:cNvPicPr/>
            <p:nvPr/>
          </p:nvPicPr>
          <p:blipFill>
            <a:blip r:embed="rId8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Obraz 14" descr=""/>
            <p:cNvPicPr/>
            <p:nvPr/>
          </p:nvPicPr>
          <p:blipFill>
            <a:blip r:embed="rId9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Obraz 15" descr=""/>
            <p:cNvPicPr/>
            <p:nvPr/>
          </p:nvPicPr>
          <p:blipFill>
            <a:blip r:embed="rId10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Obraz 16" descr=""/>
            <p:cNvPicPr/>
            <p:nvPr/>
          </p:nvPicPr>
          <p:blipFill>
            <a:blip r:embed="rId11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with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26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with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3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34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with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38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321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0560" y="77616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Odejmowanie z przekroczeniem progu dziesiątkowego</a:t>
            </a:r>
            <a:br>
              <a:rPr sz="1800"/>
            </a:br>
            <a:r>
              <a:rPr b="0" lang="pl-PL" sz="1800" spc="-1" strike="noStrike">
                <a:solidFill>
                  <a:srgbClr val="424456"/>
                </a:solidFill>
                <a:latin typeface="Trebuchet MS"/>
              </a:rPr>
              <a:t>Wykonaj odejmowanie: </a:t>
            </a:r>
            <a:r>
              <a:rPr b="1" lang="pl-PL" sz="1800" spc="-1" strike="noStrike">
                <a:solidFill>
                  <a:srgbClr val="424456"/>
                </a:solidFill>
                <a:latin typeface="Trebuchet MS"/>
              </a:rPr>
              <a:t>842 – 169</a:t>
            </a:r>
            <a:br>
              <a:rPr sz="24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rawidłowo podpisujemy liczby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jedności: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nieważ od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nie możemy odjąć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9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 tym 1 dziesiątkę zamieniamy n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0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i stąd mamy: </a:t>
            </a:r>
            <a:r>
              <a:rPr b="1" lang="pl-PL" sz="1600" spc="-1" strike="noStrike">
                <a:solidFill>
                  <a:srgbClr val="00b050"/>
                </a:solidFill>
                <a:latin typeface="Georgia"/>
              </a:rPr>
              <a:t>12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– 9 = 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zędzie jedności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nad rzędem dziesiątek zapisujemy </a:t>
            </a:r>
            <a:r>
              <a:rPr b="1" lang="pl-PL" sz="1600" spc="-1" strike="noStrike">
                <a:solidFill>
                  <a:srgbClr val="ff0000"/>
                </a:solidFill>
                <a:latin typeface="Georgia"/>
              </a:rPr>
              <a:t>3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dziesiątki: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onieważ od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nie możemy odjąć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bieramy z rzędu setek 1 setkę i zamieniamy na dziesiątki: </a:t>
            </a:r>
            <a:r>
              <a:rPr b="1" lang="pl-PL" sz="1600" spc="-1" strike="noStrike">
                <a:solidFill>
                  <a:srgbClr val="ff0000"/>
                </a:solidFill>
                <a:latin typeface="Georgia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– 6 = 7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rzędzie dziesiątek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nad rzędem setek zapisujemy </a:t>
            </a:r>
            <a:r>
              <a:rPr b="1" lang="pl-PL" sz="1600" spc="-1" strike="noStrike">
                <a:solidFill>
                  <a:srgbClr val="00b0f0"/>
                </a:solidFill>
                <a:latin typeface="Georgia"/>
              </a:rPr>
              <a:t>7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odejmujemy setk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7 – 1 = 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prawdzenie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69 + 673 = 84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 4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 6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327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8" name="pole tekstowe 11"/>
            <p:cNvSpPr/>
            <p:nvPr/>
          </p:nvSpPr>
          <p:spPr>
            <a:xfrm>
              <a:off x="6958800" y="286056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29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330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8 4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1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6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2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33" name="pole tekstowe 15"/>
            <p:cNvSpPr/>
            <p:nvPr/>
          </p:nvSpPr>
          <p:spPr>
            <a:xfrm>
              <a:off x="6958800" y="45090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34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ole tekstowe 18"/>
          <p:cNvSpPr/>
          <p:nvPr/>
        </p:nvSpPr>
        <p:spPr>
          <a:xfrm>
            <a:off x="7499880" y="4151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Trebuchet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Łącznik prostoliniowy 4"/>
          <p:cNvSpPr/>
          <p:nvPr/>
        </p:nvSpPr>
        <p:spPr>
          <a:xfrm>
            <a:off x="7404120" y="4471920"/>
            <a:ext cx="179280" cy="200160"/>
          </a:xfrm>
          <a:prstGeom prst="line">
            <a:avLst/>
          </a:prstGeom>
          <a:ln w="31680">
            <a:solidFill>
              <a:srgbClr val="c46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ole tekstowe 27"/>
          <p:cNvSpPr/>
          <p:nvPr/>
        </p:nvSpPr>
        <p:spPr>
          <a:xfrm>
            <a:off x="7326720" y="415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40" name="Grupa 28"/>
          <p:cNvGrpSpPr/>
          <p:nvPr/>
        </p:nvGrpSpPr>
        <p:grpSpPr>
          <a:xfrm>
            <a:off x="6943680" y="5589720"/>
            <a:ext cx="1079640" cy="585720"/>
            <a:chOff x="6943680" y="5589720"/>
            <a:chExt cx="1079640" cy="585720"/>
          </a:xfrm>
        </p:grpSpPr>
        <p:sp>
          <p:nvSpPr>
            <p:cNvPr id="341" name="pole tekstowe 29"/>
            <p:cNvSpPr/>
            <p:nvPr/>
          </p:nvSpPr>
          <p:spPr>
            <a:xfrm>
              <a:off x="7228440" y="55897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6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2" name="pole tekstowe 30"/>
            <p:cNvSpPr/>
            <p:nvPr/>
          </p:nvSpPr>
          <p:spPr>
            <a:xfrm>
              <a:off x="7236360" y="580716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 7 3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3" name="Łącznik prostoliniowy 31"/>
            <p:cNvSpPr/>
            <p:nvPr/>
          </p:nvSpPr>
          <p:spPr>
            <a:xfrm>
              <a:off x="6943680" y="6093000"/>
              <a:ext cx="107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44" name="pole tekstowe 32"/>
            <p:cNvSpPr/>
            <p:nvPr/>
          </p:nvSpPr>
          <p:spPr>
            <a:xfrm>
              <a:off x="7036920" y="574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45" name="pole tekstowe 35"/>
          <p:cNvSpPr/>
          <p:nvPr/>
        </p:nvSpPr>
        <p:spPr>
          <a:xfrm>
            <a:off x="7647480" y="6105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ole tekstowe 33"/>
          <p:cNvSpPr/>
          <p:nvPr/>
        </p:nvSpPr>
        <p:spPr>
          <a:xfrm>
            <a:off x="714888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f0"/>
                </a:solidFill>
                <a:latin typeface="Trebuchet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ole tekstowe 34"/>
          <p:cNvSpPr/>
          <p:nvPr/>
        </p:nvSpPr>
        <p:spPr>
          <a:xfrm>
            <a:off x="7425000" y="54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ole tekstowe 36"/>
          <p:cNvSpPr/>
          <p:nvPr/>
        </p:nvSpPr>
        <p:spPr>
          <a:xfrm>
            <a:off x="7209360" y="5423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f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ole tekstowe 37"/>
          <p:cNvSpPr/>
          <p:nvPr/>
        </p:nvSpPr>
        <p:spPr>
          <a:xfrm>
            <a:off x="7416720" y="6105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ole tekstowe 38"/>
          <p:cNvSpPr/>
          <p:nvPr/>
        </p:nvSpPr>
        <p:spPr>
          <a:xfrm>
            <a:off x="7198560" y="6105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Elipsa 32"/>
          <p:cNvSpPr/>
          <p:nvPr/>
        </p:nvSpPr>
        <p:spPr>
          <a:xfrm>
            <a:off x="7599240" y="4152960"/>
            <a:ext cx="254160" cy="74448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Elipsa 39"/>
          <p:cNvSpPr/>
          <p:nvPr/>
        </p:nvSpPr>
        <p:spPr>
          <a:xfrm>
            <a:off x="7369200" y="4156200"/>
            <a:ext cx="253800" cy="74268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Elipsa 40"/>
          <p:cNvSpPr/>
          <p:nvPr/>
        </p:nvSpPr>
        <p:spPr>
          <a:xfrm>
            <a:off x="7174080" y="4152960"/>
            <a:ext cx="255600" cy="74304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49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75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7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57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7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7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65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75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75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78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75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90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94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7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9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75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303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75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75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16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75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7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329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75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7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75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1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2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7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75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59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3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367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375" nodeType="after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Obraz 5" descr=""/>
          <p:cNvPicPr/>
          <p:nvPr/>
        </p:nvPicPr>
        <p:blipFill>
          <a:blip r:embed="rId1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: </a:t>
            </a: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odejmowanie i sprawdź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547280" y="2249640"/>
            <a:ext cx="71391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677 – 49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325 – 16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951 – 76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lnSpc>
                <a:spcPct val="20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522 - 34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57" name="Grupa 6"/>
          <p:cNvGrpSpPr/>
          <p:nvPr/>
        </p:nvGrpSpPr>
        <p:grpSpPr>
          <a:xfrm>
            <a:off x="471600" y="5157720"/>
            <a:ext cx="8346960" cy="1247760"/>
            <a:chOff x="471600" y="5157720"/>
            <a:chExt cx="8346960" cy="1247760"/>
          </a:xfrm>
        </p:grpSpPr>
        <p:pic>
          <p:nvPicPr>
            <p:cNvPr id="358" name="Obraz 7" descr=""/>
            <p:cNvPicPr/>
            <p:nvPr/>
          </p:nvPicPr>
          <p:blipFill>
            <a:blip r:embed="rId2"/>
            <a:stretch/>
          </p:blipFill>
          <p:spPr>
            <a:xfrm>
              <a:off x="471600" y="5336280"/>
              <a:ext cx="1013040" cy="106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upa 8"/>
            <p:cNvGrpSpPr/>
            <p:nvPr/>
          </p:nvGrpSpPr>
          <p:grpSpPr>
            <a:xfrm>
              <a:off x="1490040" y="5393880"/>
              <a:ext cx="660600" cy="884160"/>
              <a:chOff x="1490040" y="5393880"/>
              <a:chExt cx="660600" cy="884160"/>
            </a:xfrm>
          </p:grpSpPr>
          <p:pic>
            <p:nvPicPr>
              <p:cNvPr id="360" name="Obraz 17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490040" y="5393880"/>
                <a:ext cx="66060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Elipsa 18"/>
              <p:cNvSpPr/>
              <p:nvPr/>
            </p:nvSpPr>
            <p:spPr>
              <a:xfrm>
                <a:off x="1757160" y="5459040"/>
                <a:ext cx="410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362" name="Elipsa 19"/>
              <p:cNvSpPr/>
              <p:nvPr/>
            </p:nvSpPr>
            <p:spPr>
              <a:xfrm>
                <a:off x="1863720" y="5527440"/>
                <a:ext cx="42840" cy="36360"/>
              </a:xfrm>
              <a:prstGeom prst="ellipse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363" name="Obraz 9" descr=""/>
            <p:cNvPicPr/>
            <p:nvPr/>
          </p:nvPicPr>
          <p:blipFill>
            <a:blip r:embed="rId4"/>
            <a:stretch/>
          </p:blipFill>
          <p:spPr>
            <a:xfrm>
              <a:off x="2208240" y="5235120"/>
              <a:ext cx="69552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Obraz 10" descr=""/>
            <p:cNvPicPr/>
            <p:nvPr/>
          </p:nvPicPr>
          <p:blipFill>
            <a:blip r:embed="rId5"/>
            <a:stretch/>
          </p:blipFill>
          <p:spPr>
            <a:xfrm>
              <a:off x="7063920" y="5269680"/>
              <a:ext cx="1034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Obraz 11" descr=""/>
            <p:cNvPicPr/>
            <p:nvPr/>
          </p:nvPicPr>
          <p:blipFill>
            <a:blip r:embed="rId6"/>
            <a:stretch/>
          </p:blipFill>
          <p:spPr>
            <a:xfrm>
              <a:off x="4623840" y="5513760"/>
              <a:ext cx="879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Obraz 12" descr=""/>
            <p:cNvPicPr/>
            <p:nvPr/>
          </p:nvPicPr>
          <p:blipFill>
            <a:blip r:embed="rId7"/>
            <a:stretch/>
          </p:blipFill>
          <p:spPr>
            <a:xfrm>
              <a:off x="3771360" y="5235120"/>
              <a:ext cx="94896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Obraz 13" descr=""/>
            <p:cNvPicPr/>
            <p:nvPr/>
          </p:nvPicPr>
          <p:blipFill>
            <a:blip r:embed="rId8"/>
            <a:stretch/>
          </p:blipFill>
          <p:spPr>
            <a:xfrm>
              <a:off x="7777800" y="5336280"/>
              <a:ext cx="1040760" cy="9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Obraz 14" descr=""/>
            <p:cNvPicPr/>
            <p:nvPr/>
          </p:nvPicPr>
          <p:blipFill>
            <a:blip r:embed="rId9"/>
            <a:stretch/>
          </p:blipFill>
          <p:spPr>
            <a:xfrm>
              <a:off x="6117840" y="5292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Obraz 15" descr=""/>
            <p:cNvPicPr/>
            <p:nvPr/>
          </p:nvPicPr>
          <p:blipFill>
            <a:blip r:embed="rId10"/>
            <a:stretch/>
          </p:blipFill>
          <p:spPr>
            <a:xfrm>
              <a:off x="5250960" y="5157720"/>
              <a:ext cx="11556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Obraz 16" descr=""/>
            <p:cNvPicPr/>
            <p:nvPr/>
          </p:nvPicPr>
          <p:blipFill>
            <a:blip r:embed="rId11"/>
            <a:stretch/>
          </p:blipFill>
          <p:spPr>
            <a:xfrm>
              <a:off x="2812680" y="5271120"/>
              <a:ext cx="1173960" cy="108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7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with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86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with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90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94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with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98" nodeType="afterEffect" fill="hold" presetClass="entr" presetID="22" presetSubtype="8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9-02T09:35:39Z</dcterms:modified>
  <cp:revision>61</cp:revision>
  <dc:subject/>
  <dc:title>Prezentacja programu PowerPoint</dc:title>
</cp:coreProperties>
</file>